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7200-39C5-4582-BE7E-6DC5FD5B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591-1B17-4665-913E-0D73D734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A008-0793-49B1-8B8E-E1CFE9C4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107-DEC4-4211-BCDC-C1DF39EC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84DF-F7F9-48D1-B91F-C865FC1FD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6443-DDF0-45BC-82C9-812BAC5C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86D-F2B1-4B71-8C26-7215571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173-CBBC-4213-A080-429B782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268-3CC5-4883-BDFB-0A0344E1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651-BDB1-44DC-90F3-08DE8BA1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7F0-8125-4DCD-8DF0-8034E1FB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CF-9651-4C33-8C5D-F2AF7562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224-B703-4655-B43A-D699EFD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757-7586-42FC-98E9-97F1C6C8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200-279F-4077-8298-05503EE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B38-BA4C-486B-BF9F-D64B9E5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455-49CE-42C9-B205-2F70DF3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15B-584B-4EB4-AB94-2C3E7577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1098-7947-42A7-B4E2-E580EA3E2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</p:spTree>
  </p:cSld>
  <p:transition>
    <p:pull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8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07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49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55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59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4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74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chmorgan</cp:lastModifiedBy>
  <dcterms:modified xsi:type="dcterms:W3CDTF">2013-03-14T16:26:28Z</dcterms:modified>
  <cp:revision>33</cp:revision>
  <dc:subject/>
  <dc:title>Multiply Polynomials</dc:title>
</cp:coreProperties>
</file>